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20.png" ContentType="image/png"/>
  <Override PartName="/ppt/media/image19.gif" ContentType="image/gif"/>
  <Override PartName="/ppt/media/image2.jpeg" ContentType="image/jpeg"/>
  <Override PartName="/ppt/media/image31.png" ContentType="image/png"/>
  <Override PartName="/ppt/media/image41.jpeg" ContentType="image/jpeg"/>
  <Override PartName="/ppt/media/image66.png" ContentType="image/png"/>
  <Override PartName="/ppt/media/image68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50.wmf" ContentType="image/x-wmf"/>
  <Override PartName="/ppt/media/image28.png" ContentType="image/png"/>
  <Override PartName="/ppt/media/image14.png" ContentType="image/png"/>
  <Override PartName="/ppt/media/image27.jpeg" ContentType="image/jpeg"/>
  <Override PartName="/ppt/media/image10.jpeg" ContentType="image/jpeg"/>
  <Override PartName="/ppt/media/image67.jpeg" ContentType="image/jpeg"/>
  <Override PartName="/ppt/media/image21.png" ContentType="image/png"/>
  <Override PartName="/ppt/media/image62.jpeg" ContentType="image/jpeg"/>
  <Override PartName="/ppt/media/image5.jpeg" ContentType="image/jpeg"/>
  <Override PartName="/ppt/media/image18.jpeg" ContentType="image/jpeg"/>
  <Override PartName="/ppt/media/image15.png" ContentType="image/png"/>
  <Override PartName="/ppt/media/image65.png" ContentType="image/png"/>
  <Override PartName="/ppt/media/image46.jpeg" ContentType="image/jpeg"/>
  <Override PartName="/ppt/media/image17.jpeg" ContentType="image/jpeg"/>
  <Override PartName="/ppt/media/image59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29.png" ContentType="image/png"/>
  <Override PartName="/ppt/media/image6.png" ContentType="image/png"/>
  <Override PartName="/ppt/media/image8.png" ContentType="image/png"/>
  <Override PartName="/ppt/media/image39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36.png" ContentType="image/png"/>
  <Override PartName="/ppt/media/image9.jpeg" ContentType="image/jpeg"/>
  <Override PartName="/ppt/media/image30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5.png" ContentType="image/png"/>
  <Override PartName="/ppt/media/image37.png" ContentType="image/png"/>
  <Override PartName="/ppt/media/image40.jpeg" ContentType="image/jpeg"/>
  <Override PartName="/ppt/media/image43.png" ContentType="image/png"/>
  <Override PartName="/ppt/media/image57.jpeg" ContentType="image/jpeg"/>
  <Override PartName="/ppt/media/image63.png" ContentType="image/png"/>
  <Override PartName="/ppt/media/image44.jpeg" ContentType="image/jpeg"/>
  <Override PartName="/ppt/media/image45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EB3-884B-42EA-AF2C-E1464ABB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9F6-11B5-421D-BED1-6A91A22F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032-1515-4DF5-903F-4A230753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8D2-B08B-45D7-89F7-C4BB08CD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90F-1D76-48DE-A235-B4A03E1E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23E-F00C-4C35-978C-DA01C0E7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E2C-55CF-409D-8C1A-1BDE60F0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5CE-1BED-4366-9C62-A368BD7C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E81-AF1C-445E-B288-B5406052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35B-B280-4713-BBC4-8653611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732-287E-4B9D-A049-8EDDEC2F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EB2-36F3-46DC-B7BB-AA1EB86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46FB-94C9-4C99-A387-39706F218419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5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080" y="114300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TIS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illia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4952880" cy="359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71800" y="4419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ral groov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4841"/>
          <a:stretch/>
        </p:blipFill>
        <p:spPr>
          <a:xfrm>
            <a:off x="0" y="86508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ramecium Conjugat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962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Zooflagellate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(zoomastigote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45720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como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festyl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free-liv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me parasi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ve featur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carried by vecto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reservoi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rypanosom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frican s.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iardia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7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 organis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ually an arthropod or mollusc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rries a pathog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out being effected by it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 : Bubonic plagu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ea carries the disea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lagella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56120" cy="384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1446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657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porozo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picomplexians)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como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ne (flagella in some phases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festyl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 parasi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lasmodium vivax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uses Malari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oxoplasma gondi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uses toxoplasmosi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76360"/>
            <a:ext cx="449568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porozoan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809880" cy="314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01920" y="3352680"/>
            <a:ext cx="5842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Mosquito Fa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squitoes are responsible for more human death than any other living creature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ale mosquitoes do not bite. The real risk is  from female mosquitoes which bite when in search of a blood meal to provide protein for their eggs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st adult mosquitoes live for about two weeks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here are over 2,500 species of mosquitoes in the world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he welts that appear after a mosquito leaves isn't from the bite - it's an allergic reaction to saliva the mosquito injected under the skin to prevent the blood from clotting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squitoes like dark areas and will suck the juice out of plants in order to live - including tree leaves, grass, shrubs, etc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29280" y="3657600"/>
            <a:ext cx="1047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lga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lant like Protist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trophic (all have chlorophyll a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ga are divided by pigments, cell wall types, and food storage compoun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Y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hallus - body portion of an alga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lue green algae are not protists at all-- they are Cyanobacteria, a moneran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lab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atch the green algae, because of their similarities with them, they are probably the ancestors of modern plant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tist classific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ukaryotic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stly un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tist kingdom is a “dumping ground”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–includes organisms that have exceptions to the many rules that scientists attempt to apply to them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lgae:   Plant-like Protist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Euglenophy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uglen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 </a:t>
            </a:r>
            <a:r>
              <a:rPr b="1" lang="en-US" sz="2800" spc="-1" strike="noStrike">
                <a:solidFill>
                  <a:srgbClr val="ffcc00"/>
                </a:solidFill>
                <a:latin typeface="Book Antiqua"/>
              </a:rPr>
              <a:t>Chyrsophyta</a:t>
            </a:r>
            <a:r>
              <a:rPr b="1" lang="en-US" sz="2800" spc="-1" strike="noStrike">
                <a:solidFill>
                  <a:srgbClr val="b46802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Bacillariophyta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golden alga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ato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 </a:t>
            </a:r>
            <a:r>
              <a:rPr b="1" lang="en-US" sz="2800" spc="-1" strike="noStrike">
                <a:solidFill>
                  <a:srgbClr val="ff3300"/>
                </a:solidFill>
                <a:latin typeface="Book Antiqua"/>
              </a:rPr>
              <a:t>Pyrrophyta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fire alga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noflagellat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0600" y="12949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Rhodophy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red alga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d seaweed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 </a:t>
            </a:r>
            <a:r>
              <a:rPr b="1" lang="en-US" sz="2800" spc="-1" strike="noStrike">
                <a:solidFill>
                  <a:srgbClr val="cc6600"/>
                </a:solidFill>
                <a:latin typeface="Book Antiqua"/>
              </a:rPr>
              <a:t>Phaeophyta</a:t>
            </a:r>
            <a:r>
              <a:rPr b="0" lang="en-US" sz="2800" spc="-1" strike="noStrike">
                <a:solidFill>
                  <a:srgbClr val="cc66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Book Antiqua"/>
              </a:rPr>
              <a:t>brown alga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elp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Book Antiqua"/>
              </a:rPr>
              <a:t>Chlorophyta</a:t>
            </a:r>
            <a:r>
              <a:rPr b="0" lang="en-US" sz="2800" spc="-1" strike="noStrike">
                <a:solidFill>
                  <a:srgbClr val="0099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Book Antiqua"/>
              </a:rPr>
              <a:t>green alga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olvox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14880" cy="2981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hlorophyta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“green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2590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igments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(like plants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l a,b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ell wall = cellulose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(like plants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orage = starch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(like plants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Ancestors of plant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Can be unicellular, filimentous, colonial, and multicellula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Motile  - uni and coloni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Habitat – fresh wate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6781680" y="1295280"/>
            <a:ext cx="2057400" cy="3810240"/>
            <a:chOff x="6781680" y="1295280"/>
            <a:chExt cx="2057400" cy="38102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68977" t="29418" r="0" b="0"/>
            <a:stretch/>
          </p:blipFill>
          <p:spPr>
            <a:xfrm>
              <a:off x="6781680" y="1295280"/>
              <a:ext cx="205740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6781680" y="1295280"/>
              <a:ext cx="2057400" cy="38102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2"/>
          <a:srcRect l="26439" t="48008" r="31041" b="2588"/>
          <a:stretch/>
        </p:blipFill>
        <p:spPr>
          <a:xfrm>
            <a:off x="5105520" y="2971800"/>
            <a:ext cx="2819160" cy="2666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lgae Structur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791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nicellul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ngle cel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hytoplankt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lamentou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cells divide but do not separate causing long strand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ells do not differentiat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onial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roups of cells acting in a coordinated mann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lticellul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ome differentiation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rcRect l="0" t="0" r="64375" b="52003"/>
          <a:stretch/>
        </p:blipFill>
        <p:spPr>
          <a:xfrm>
            <a:off x="4952880" y="0"/>
            <a:ext cx="2362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 1 of Chlorophy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green alga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65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5164200"/>
            <a:ext cx="624852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Chlamydomonos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-   Unicellular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- Motile, Flagellated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62501" t="2400" r="0" b="49616"/>
          <a:stretch/>
        </p:blipFill>
        <p:spPr>
          <a:xfrm>
            <a:off x="7313760" y="5334120"/>
            <a:ext cx="1830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 #2 of Chlorophy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green alga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pirogyr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imentou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- the cells divide but do not separate causing long stran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-cells do not differenti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 #3 of Chlorophy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green algae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505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Volvox , Pandorin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lonial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s have different rol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agellated cel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hotosyntheti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ametocy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s not trully differentiat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0" t="6964" r="63862" b="59955"/>
          <a:stretch/>
        </p:blipFill>
        <p:spPr>
          <a:xfrm>
            <a:off x="6172200" y="4975200"/>
            <a:ext cx="2971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3378240" cy="3809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66720" y="990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 #4 of Chlorophy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green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5943600" cy="4038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3657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Ulva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sea lettuce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produces by alternation of generatio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657600" cy="4647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67360" y="0"/>
            <a:ext cx="4076640" cy="20001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52880" y="22093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Pig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chl  a,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carotenoi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Fucoxanthi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Book Antiqua"/>
              </a:rPr>
              <a:t>Phaeophyta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Book Antiqua"/>
              </a:rPr>
              <a:t>“brown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4267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kelp</a:t>
            </a: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arts of kelp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oldfast,  stipe,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lade,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ladd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ook Antiqua"/>
              </a:rPr>
              <a:t>temperate seaweed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All mult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alt water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onmotile*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4120" y="1181160"/>
            <a:ext cx="3446280" cy="5676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haeophyta“brown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581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6248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lad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ladd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ip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ldfas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730840" y="209520"/>
            <a:ext cx="3413160" cy="66484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Book Antiqua"/>
              </a:rPr>
              <a:t>Rhodophyta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Book Antiqua"/>
              </a:rPr>
              <a:t>“red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66416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9520" y="2209320"/>
            <a:ext cx="2667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ig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l 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cobli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Kingdom Protis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819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imal like -- Protozoa  (zooplankton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t like-- Alga (phytoplankton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ungi like -- Slime and Water Mol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hodophy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red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3962520" cy="3876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741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114800" y="2362320"/>
            <a:ext cx="3200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opical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d seawe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abita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alt wat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onmotil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gar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210680" cy="687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365760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ig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hl a,c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idinu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ood storag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tarc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181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yrrophy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fire algae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noflagella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3434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Book Antiqua"/>
              </a:rPr>
              <a:t>Examples: dinoflagellat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Book Antiqua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49"/>
              </a:spcBef>
              <a:buClr>
                <a:srgbClr val="cccc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Book Antiqua"/>
              </a:rPr>
              <a:t>habita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349"/>
              </a:spcBef>
              <a:buClr>
                <a:srgbClr val="cccc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Book Antiqua"/>
              </a:rPr>
              <a:t>fresh/sal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349"/>
              </a:spcBef>
              <a:buClr>
                <a:srgbClr val="cccc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Book Antiqua"/>
              </a:rPr>
              <a:t>motile: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349"/>
              </a:spcBef>
              <a:buClr>
                <a:srgbClr val="cccc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Book Antiqua"/>
              </a:rPr>
              <a:t>biflagellat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Pyrrophyta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“fire algae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417600"/>
            <a:ext cx="9144000" cy="7275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Pyrrophyta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Dinoflagellates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Book Antiqua"/>
              </a:rPr>
              <a:t>red ti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1523880"/>
            <a:ext cx="3581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cause “red tide”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often phosphorescent</a:t>
            </a: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Algal bloo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Book Antiqua"/>
              </a:rPr>
              <a:t>Toxi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hrysophyta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golden algae”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ig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l a,b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ucoxanthi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lica cell wa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od storag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il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57600" y="2535120"/>
            <a:ext cx="54864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hrysophyta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“golden algae”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:  diatom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nicellular (some coloni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tile : rap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abita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alt/fresh wat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exu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xu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527880" y="1828800"/>
            <a:ext cx="2616120" cy="502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733920" y="4290840"/>
            <a:ext cx="2895480" cy="2567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343400" y="1981080"/>
            <a:ext cx="2438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M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atomaceous Eart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troleum Deposi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0" r="2945" b="2204"/>
          <a:stretch/>
        </p:blipFill>
        <p:spPr>
          <a:xfrm>
            <a:off x="-152280" y="-50760"/>
            <a:ext cx="9448560" cy="6908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uglenophy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igment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l 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l b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rotenoi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tein pellic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od Storag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ysacchari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67652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19360" y="3808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uglenophy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6400800" cy="3798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Exampl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Euglena,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Astasia  (can lose its chloroplasts and become heterotrophic)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all unicellula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otile: flagell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abita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resh wat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6019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yespo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0" t="0" r="0" b="4446"/>
          <a:stretch/>
        </p:blipFill>
        <p:spPr>
          <a:xfrm>
            <a:off x="1541520" y="0"/>
            <a:ext cx="63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100000">
              <a:srgbClr val="abab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5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ungus-like protist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914400"/>
            <a:ext cx="6019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terotrophic with external digestion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bsorptive nutri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milar lifestyle as fung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lticellular multinucle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 groups (based on cell type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ter molds are composed of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filament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cell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Oomyco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lime molds ar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moeba-lik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Myxomycota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Acrasiomyco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tozo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eterotrophic (eat dead things or other organism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 cell wal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re all capable of asexual reproduction usually by binary fiss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265640" y="0"/>
            <a:ext cx="487836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omyce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nown a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er molds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ve cellulose in 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 water molds and downy mildew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ve branching filaments called hypha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4114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cause of “ick”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ows on decaying aquatic lif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3343320"/>
            <a:ext cx="5410080" cy="351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4114800" y="5257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1444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"/>
          <p:cNvSpPr/>
          <p:nvPr/>
        </p:nvSpPr>
        <p:spPr>
          <a:xfrm>
            <a:off x="5378400" y="3665520"/>
            <a:ext cx="3529080" cy="1324080"/>
          </a:xfrm>
          <a:custGeom>
            <a:avLst/>
            <a:gdLst/>
            <a:ahLst/>
            <a:rect l="l" t="t" r="r" b="b"/>
            <a:pathLst>
              <a:path w="2223" h="834">
                <a:moveTo>
                  <a:pt x="0" y="750"/>
                </a:moveTo>
                <a:cubicBezTo>
                  <a:pt x="55" y="777"/>
                  <a:pt x="103" y="828"/>
                  <a:pt x="164" y="832"/>
                </a:cubicBezTo>
                <a:cubicBezTo>
                  <a:pt x="189" y="834"/>
                  <a:pt x="185" y="786"/>
                  <a:pt x="188" y="762"/>
                </a:cubicBezTo>
                <a:cubicBezTo>
                  <a:pt x="201" y="672"/>
                  <a:pt x="204" y="581"/>
                  <a:pt x="212" y="491"/>
                </a:cubicBezTo>
                <a:cubicBezTo>
                  <a:pt x="224" y="503"/>
                  <a:pt x="233" y="518"/>
                  <a:pt x="247" y="527"/>
                </a:cubicBezTo>
                <a:cubicBezTo>
                  <a:pt x="368" y="608"/>
                  <a:pt x="180" y="267"/>
                  <a:pt x="306" y="432"/>
                </a:cubicBezTo>
                <a:cubicBezTo>
                  <a:pt x="374" y="364"/>
                  <a:pt x="310" y="406"/>
                  <a:pt x="388" y="468"/>
                </a:cubicBezTo>
                <a:cubicBezTo>
                  <a:pt x="407" y="484"/>
                  <a:pt x="435" y="483"/>
                  <a:pt x="459" y="491"/>
                </a:cubicBezTo>
                <a:cubicBezTo>
                  <a:pt x="538" y="545"/>
                  <a:pt x="440" y="491"/>
                  <a:pt x="588" y="491"/>
                </a:cubicBezTo>
                <a:cubicBezTo>
                  <a:pt x="628" y="491"/>
                  <a:pt x="667" y="507"/>
                  <a:pt x="706" y="515"/>
                </a:cubicBezTo>
                <a:cubicBezTo>
                  <a:pt x="737" y="546"/>
                  <a:pt x="771" y="576"/>
                  <a:pt x="800" y="609"/>
                </a:cubicBezTo>
                <a:cubicBezTo>
                  <a:pt x="826" y="638"/>
                  <a:pt x="838" y="681"/>
                  <a:pt x="870" y="703"/>
                </a:cubicBezTo>
                <a:cubicBezTo>
                  <a:pt x="882" y="711"/>
                  <a:pt x="894" y="688"/>
                  <a:pt x="906" y="680"/>
                </a:cubicBezTo>
                <a:cubicBezTo>
                  <a:pt x="914" y="656"/>
                  <a:pt x="923" y="633"/>
                  <a:pt x="929" y="609"/>
                </a:cubicBezTo>
                <a:cubicBezTo>
                  <a:pt x="949" y="524"/>
                  <a:pt x="933" y="476"/>
                  <a:pt x="953" y="609"/>
                </a:cubicBezTo>
                <a:cubicBezTo>
                  <a:pt x="969" y="578"/>
                  <a:pt x="982" y="545"/>
                  <a:pt x="1000" y="515"/>
                </a:cubicBezTo>
                <a:cubicBezTo>
                  <a:pt x="1010" y="498"/>
                  <a:pt x="1025" y="451"/>
                  <a:pt x="1035" y="468"/>
                </a:cubicBezTo>
                <a:cubicBezTo>
                  <a:pt x="1075" y="539"/>
                  <a:pt x="1082" y="625"/>
                  <a:pt x="1106" y="703"/>
                </a:cubicBezTo>
                <a:cubicBezTo>
                  <a:pt x="1191" y="589"/>
                  <a:pt x="1268" y="472"/>
                  <a:pt x="1341" y="350"/>
                </a:cubicBezTo>
                <a:cubicBezTo>
                  <a:pt x="1390" y="449"/>
                  <a:pt x="1363" y="372"/>
                  <a:pt x="1341" y="562"/>
                </a:cubicBezTo>
                <a:cubicBezTo>
                  <a:pt x="1336" y="609"/>
                  <a:pt x="1334" y="656"/>
                  <a:pt x="1329" y="703"/>
                </a:cubicBezTo>
                <a:cubicBezTo>
                  <a:pt x="1326" y="727"/>
                  <a:pt x="1306" y="795"/>
                  <a:pt x="1317" y="774"/>
                </a:cubicBezTo>
                <a:cubicBezTo>
                  <a:pt x="1360" y="692"/>
                  <a:pt x="1358" y="580"/>
                  <a:pt x="1388" y="491"/>
                </a:cubicBezTo>
                <a:cubicBezTo>
                  <a:pt x="1469" y="723"/>
                  <a:pt x="1416" y="750"/>
                  <a:pt x="1529" y="597"/>
                </a:cubicBezTo>
                <a:cubicBezTo>
                  <a:pt x="1537" y="586"/>
                  <a:pt x="1545" y="574"/>
                  <a:pt x="1553" y="562"/>
                </a:cubicBezTo>
                <a:cubicBezTo>
                  <a:pt x="1580" y="762"/>
                  <a:pt x="1579" y="532"/>
                  <a:pt x="1588" y="479"/>
                </a:cubicBezTo>
                <a:cubicBezTo>
                  <a:pt x="1592" y="526"/>
                  <a:pt x="1565" y="589"/>
                  <a:pt x="1600" y="621"/>
                </a:cubicBezTo>
                <a:cubicBezTo>
                  <a:pt x="1637" y="656"/>
                  <a:pt x="1703" y="618"/>
                  <a:pt x="1752" y="632"/>
                </a:cubicBezTo>
                <a:cubicBezTo>
                  <a:pt x="1803" y="646"/>
                  <a:pt x="1846" y="681"/>
                  <a:pt x="1894" y="703"/>
                </a:cubicBezTo>
                <a:cubicBezTo>
                  <a:pt x="2010" y="757"/>
                  <a:pt x="2101" y="788"/>
                  <a:pt x="2223" y="809"/>
                </a:cubicBezTo>
                <a:cubicBezTo>
                  <a:pt x="2215" y="793"/>
                  <a:pt x="2201" y="779"/>
                  <a:pt x="2199" y="762"/>
                </a:cubicBezTo>
                <a:cubicBezTo>
                  <a:pt x="2197" y="746"/>
                  <a:pt x="2217" y="730"/>
                  <a:pt x="2211" y="715"/>
                </a:cubicBezTo>
                <a:cubicBezTo>
                  <a:pt x="2110" y="486"/>
                  <a:pt x="1946" y="282"/>
                  <a:pt x="1788" y="91"/>
                </a:cubicBezTo>
                <a:cubicBezTo>
                  <a:pt x="1780" y="68"/>
                  <a:pt x="1777" y="0"/>
                  <a:pt x="1764" y="21"/>
                </a:cubicBezTo>
                <a:cubicBezTo>
                  <a:pt x="1742" y="58"/>
                  <a:pt x="1748" y="107"/>
                  <a:pt x="1752" y="150"/>
                </a:cubicBezTo>
                <a:cubicBezTo>
                  <a:pt x="1760" y="245"/>
                  <a:pt x="1784" y="338"/>
                  <a:pt x="1800" y="432"/>
                </a:cubicBezTo>
                <a:cubicBezTo>
                  <a:pt x="1805" y="463"/>
                  <a:pt x="1803" y="496"/>
                  <a:pt x="1811" y="527"/>
                </a:cubicBezTo>
                <a:cubicBezTo>
                  <a:pt x="1815" y="541"/>
                  <a:pt x="1827" y="550"/>
                  <a:pt x="1835" y="562"/>
                </a:cubicBezTo>
                <a:cubicBezTo>
                  <a:pt x="1839" y="585"/>
                  <a:pt x="1826" y="621"/>
                  <a:pt x="1847" y="632"/>
                </a:cubicBezTo>
                <a:cubicBezTo>
                  <a:pt x="1864" y="641"/>
                  <a:pt x="1855" y="594"/>
                  <a:pt x="1858" y="574"/>
                </a:cubicBezTo>
                <a:cubicBezTo>
                  <a:pt x="1867" y="503"/>
                  <a:pt x="1873" y="433"/>
                  <a:pt x="1882" y="362"/>
                </a:cubicBezTo>
                <a:cubicBezTo>
                  <a:pt x="1874" y="327"/>
                  <a:pt x="1858" y="292"/>
                  <a:pt x="1858" y="256"/>
                </a:cubicBezTo>
                <a:cubicBezTo>
                  <a:pt x="1858" y="192"/>
                  <a:pt x="1883" y="131"/>
                  <a:pt x="1894" y="68"/>
                </a:cubicBezTo>
                <a:cubicBezTo>
                  <a:pt x="1898" y="103"/>
                  <a:pt x="1886" y="144"/>
                  <a:pt x="1905" y="174"/>
                </a:cubicBezTo>
                <a:cubicBezTo>
                  <a:pt x="1913" y="188"/>
                  <a:pt x="1940" y="151"/>
                  <a:pt x="1952" y="162"/>
                </a:cubicBezTo>
                <a:cubicBezTo>
                  <a:pt x="1969" y="179"/>
                  <a:pt x="1960" y="209"/>
                  <a:pt x="1964" y="232"/>
                </a:cubicBezTo>
                <a:cubicBezTo>
                  <a:pt x="1976" y="376"/>
                  <a:pt x="1949" y="422"/>
                  <a:pt x="2047" y="327"/>
                </a:cubicBezTo>
                <a:cubicBezTo>
                  <a:pt x="2082" y="219"/>
                  <a:pt x="2143" y="135"/>
                  <a:pt x="2211" y="44"/>
                </a:cubicBezTo>
                <a:cubicBezTo>
                  <a:pt x="2174" y="157"/>
                  <a:pt x="2143" y="273"/>
                  <a:pt x="2105" y="385"/>
                </a:cubicBezTo>
                <a:cubicBezTo>
                  <a:pt x="2090" y="308"/>
                  <a:pt x="2104" y="259"/>
                  <a:pt x="2129" y="185"/>
                </a:cubicBezTo>
                <a:cubicBezTo>
                  <a:pt x="2141" y="193"/>
                  <a:pt x="2164" y="209"/>
                  <a:pt x="2164" y="20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276720"/>
            <a:ext cx="5410080" cy="3581280"/>
          </a:xfrm>
          <a:custGeom>
            <a:avLst/>
            <a:gdLst/>
            <a:ahLst/>
            <a:rect l="l" t="t" r="r" b="b"/>
            <a:pathLst>
              <a:path w="2894" h="2172">
                <a:moveTo>
                  <a:pt x="283" y="1613"/>
                </a:moveTo>
                <a:cubicBezTo>
                  <a:pt x="205" y="1307"/>
                  <a:pt x="280" y="1831"/>
                  <a:pt x="295" y="1942"/>
                </a:cubicBezTo>
                <a:cubicBezTo>
                  <a:pt x="299" y="1970"/>
                  <a:pt x="303" y="1997"/>
                  <a:pt x="307" y="2025"/>
                </a:cubicBezTo>
                <a:cubicBezTo>
                  <a:pt x="319" y="2001"/>
                  <a:pt x="334" y="1979"/>
                  <a:pt x="342" y="1954"/>
                </a:cubicBezTo>
                <a:cubicBezTo>
                  <a:pt x="366" y="1881"/>
                  <a:pt x="340" y="1838"/>
                  <a:pt x="412" y="1789"/>
                </a:cubicBezTo>
                <a:cubicBezTo>
                  <a:pt x="424" y="1770"/>
                  <a:pt x="435" y="1750"/>
                  <a:pt x="448" y="1731"/>
                </a:cubicBezTo>
                <a:cubicBezTo>
                  <a:pt x="459" y="1715"/>
                  <a:pt x="464" y="1680"/>
                  <a:pt x="483" y="1684"/>
                </a:cubicBezTo>
                <a:cubicBezTo>
                  <a:pt x="503" y="1688"/>
                  <a:pt x="498" y="1723"/>
                  <a:pt x="506" y="1742"/>
                </a:cubicBezTo>
                <a:cubicBezTo>
                  <a:pt x="518" y="1738"/>
                  <a:pt x="534" y="1721"/>
                  <a:pt x="542" y="1731"/>
                </a:cubicBezTo>
                <a:cubicBezTo>
                  <a:pt x="548" y="1738"/>
                  <a:pt x="561" y="1865"/>
                  <a:pt x="565" y="1872"/>
                </a:cubicBezTo>
                <a:cubicBezTo>
                  <a:pt x="574" y="1887"/>
                  <a:pt x="596" y="1887"/>
                  <a:pt x="612" y="1895"/>
                </a:cubicBezTo>
                <a:cubicBezTo>
                  <a:pt x="682" y="1826"/>
                  <a:pt x="704" y="1776"/>
                  <a:pt x="801" y="1825"/>
                </a:cubicBezTo>
                <a:cubicBezTo>
                  <a:pt x="844" y="1821"/>
                  <a:pt x="890" y="1797"/>
                  <a:pt x="930" y="1813"/>
                </a:cubicBezTo>
                <a:cubicBezTo>
                  <a:pt x="953" y="1822"/>
                  <a:pt x="948" y="1860"/>
                  <a:pt x="953" y="1884"/>
                </a:cubicBezTo>
                <a:cubicBezTo>
                  <a:pt x="978" y="2000"/>
                  <a:pt x="931" y="1961"/>
                  <a:pt x="1012" y="2001"/>
                </a:cubicBezTo>
                <a:cubicBezTo>
                  <a:pt x="1103" y="1913"/>
                  <a:pt x="994" y="1995"/>
                  <a:pt x="1083" y="2001"/>
                </a:cubicBezTo>
                <a:cubicBezTo>
                  <a:pt x="1134" y="2004"/>
                  <a:pt x="1185" y="1986"/>
                  <a:pt x="1236" y="1978"/>
                </a:cubicBezTo>
                <a:cubicBezTo>
                  <a:pt x="1259" y="1954"/>
                  <a:pt x="1277" y="1923"/>
                  <a:pt x="1306" y="1907"/>
                </a:cubicBezTo>
                <a:cubicBezTo>
                  <a:pt x="1317" y="1901"/>
                  <a:pt x="1336" y="1908"/>
                  <a:pt x="1342" y="1919"/>
                </a:cubicBezTo>
                <a:cubicBezTo>
                  <a:pt x="1354" y="1939"/>
                  <a:pt x="1349" y="1966"/>
                  <a:pt x="1353" y="1989"/>
                </a:cubicBezTo>
                <a:cubicBezTo>
                  <a:pt x="1361" y="1966"/>
                  <a:pt x="1373" y="1943"/>
                  <a:pt x="1377" y="1919"/>
                </a:cubicBezTo>
                <a:cubicBezTo>
                  <a:pt x="1386" y="1860"/>
                  <a:pt x="1376" y="1800"/>
                  <a:pt x="1389" y="1742"/>
                </a:cubicBezTo>
                <a:cubicBezTo>
                  <a:pt x="1392" y="1730"/>
                  <a:pt x="1538" y="1613"/>
                  <a:pt x="1353" y="1766"/>
                </a:cubicBezTo>
                <a:cubicBezTo>
                  <a:pt x="1330" y="1813"/>
                  <a:pt x="1310" y="1862"/>
                  <a:pt x="1283" y="1907"/>
                </a:cubicBezTo>
                <a:cubicBezTo>
                  <a:pt x="1263" y="1941"/>
                  <a:pt x="1246" y="2021"/>
                  <a:pt x="1212" y="2001"/>
                </a:cubicBezTo>
                <a:cubicBezTo>
                  <a:pt x="1171" y="1978"/>
                  <a:pt x="1205" y="1907"/>
                  <a:pt x="1201" y="1860"/>
                </a:cubicBezTo>
                <a:cubicBezTo>
                  <a:pt x="1198" y="1821"/>
                  <a:pt x="1193" y="1781"/>
                  <a:pt x="1189" y="1742"/>
                </a:cubicBezTo>
                <a:cubicBezTo>
                  <a:pt x="1177" y="1750"/>
                  <a:pt x="1164" y="1775"/>
                  <a:pt x="1153" y="1766"/>
                </a:cubicBezTo>
                <a:cubicBezTo>
                  <a:pt x="1112" y="1734"/>
                  <a:pt x="1136" y="1661"/>
                  <a:pt x="1142" y="1625"/>
                </a:cubicBezTo>
                <a:cubicBezTo>
                  <a:pt x="1156" y="1686"/>
                  <a:pt x="1139" y="1756"/>
                  <a:pt x="1165" y="1813"/>
                </a:cubicBezTo>
                <a:cubicBezTo>
                  <a:pt x="1172" y="1828"/>
                  <a:pt x="1196" y="1805"/>
                  <a:pt x="1212" y="1801"/>
                </a:cubicBezTo>
                <a:cubicBezTo>
                  <a:pt x="1288" y="1690"/>
                  <a:pt x="1150" y="1874"/>
                  <a:pt x="1259" y="1884"/>
                </a:cubicBezTo>
                <a:cubicBezTo>
                  <a:pt x="1309" y="1889"/>
                  <a:pt x="1365" y="1778"/>
                  <a:pt x="1365" y="1778"/>
                </a:cubicBezTo>
                <a:cubicBezTo>
                  <a:pt x="1369" y="1809"/>
                  <a:pt x="1346" y="1864"/>
                  <a:pt x="1377" y="1872"/>
                </a:cubicBezTo>
                <a:cubicBezTo>
                  <a:pt x="1534" y="1910"/>
                  <a:pt x="1413" y="1710"/>
                  <a:pt x="1483" y="1848"/>
                </a:cubicBezTo>
                <a:cubicBezTo>
                  <a:pt x="1507" y="1686"/>
                  <a:pt x="1502" y="1808"/>
                  <a:pt x="1518" y="1872"/>
                </a:cubicBezTo>
                <a:cubicBezTo>
                  <a:pt x="1523" y="1853"/>
                  <a:pt x="1531" y="1713"/>
                  <a:pt x="1612" y="1754"/>
                </a:cubicBezTo>
                <a:cubicBezTo>
                  <a:pt x="1634" y="1765"/>
                  <a:pt x="1628" y="1801"/>
                  <a:pt x="1636" y="1825"/>
                </a:cubicBezTo>
                <a:cubicBezTo>
                  <a:pt x="1644" y="1794"/>
                  <a:pt x="1637" y="1754"/>
                  <a:pt x="1659" y="1731"/>
                </a:cubicBezTo>
                <a:cubicBezTo>
                  <a:pt x="1673" y="1717"/>
                  <a:pt x="1666" y="1770"/>
                  <a:pt x="1671" y="1789"/>
                </a:cubicBezTo>
                <a:cubicBezTo>
                  <a:pt x="1678" y="1813"/>
                  <a:pt x="1687" y="1836"/>
                  <a:pt x="1695" y="1860"/>
                </a:cubicBezTo>
                <a:cubicBezTo>
                  <a:pt x="1980" y="1790"/>
                  <a:pt x="1554" y="1905"/>
                  <a:pt x="1906" y="1766"/>
                </a:cubicBezTo>
                <a:cubicBezTo>
                  <a:pt x="1935" y="1754"/>
                  <a:pt x="1969" y="1758"/>
                  <a:pt x="2000" y="1754"/>
                </a:cubicBezTo>
                <a:cubicBezTo>
                  <a:pt x="2026" y="2013"/>
                  <a:pt x="2011" y="1911"/>
                  <a:pt x="2036" y="2060"/>
                </a:cubicBezTo>
                <a:cubicBezTo>
                  <a:pt x="2065" y="2013"/>
                  <a:pt x="2143" y="1914"/>
                  <a:pt x="2118" y="1848"/>
                </a:cubicBezTo>
                <a:cubicBezTo>
                  <a:pt x="2104" y="1811"/>
                  <a:pt x="2055" y="1801"/>
                  <a:pt x="2024" y="1778"/>
                </a:cubicBezTo>
                <a:cubicBezTo>
                  <a:pt x="2000" y="1786"/>
                  <a:pt x="1973" y="1816"/>
                  <a:pt x="1953" y="1801"/>
                </a:cubicBezTo>
                <a:cubicBezTo>
                  <a:pt x="1927" y="1782"/>
                  <a:pt x="1939" y="1738"/>
                  <a:pt x="1930" y="1707"/>
                </a:cubicBezTo>
                <a:cubicBezTo>
                  <a:pt x="1923" y="1683"/>
                  <a:pt x="1914" y="1660"/>
                  <a:pt x="1906" y="1637"/>
                </a:cubicBezTo>
                <a:cubicBezTo>
                  <a:pt x="1960" y="1475"/>
                  <a:pt x="1905" y="1844"/>
                  <a:pt x="1895" y="1907"/>
                </a:cubicBezTo>
                <a:cubicBezTo>
                  <a:pt x="1899" y="1856"/>
                  <a:pt x="1892" y="1803"/>
                  <a:pt x="1906" y="1754"/>
                </a:cubicBezTo>
                <a:cubicBezTo>
                  <a:pt x="1920" y="1703"/>
                  <a:pt x="1957" y="1662"/>
                  <a:pt x="1977" y="1613"/>
                </a:cubicBezTo>
                <a:cubicBezTo>
                  <a:pt x="1989" y="1583"/>
                  <a:pt x="1992" y="1550"/>
                  <a:pt x="2000" y="1519"/>
                </a:cubicBezTo>
                <a:cubicBezTo>
                  <a:pt x="2004" y="1593"/>
                  <a:pt x="2000" y="1668"/>
                  <a:pt x="2012" y="1742"/>
                </a:cubicBezTo>
                <a:cubicBezTo>
                  <a:pt x="2016" y="1765"/>
                  <a:pt x="2021" y="1695"/>
                  <a:pt x="2024" y="1672"/>
                </a:cubicBezTo>
                <a:cubicBezTo>
                  <a:pt x="2029" y="1633"/>
                  <a:pt x="2032" y="1593"/>
                  <a:pt x="2036" y="1554"/>
                </a:cubicBezTo>
                <a:cubicBezTo>
                  <a:pt x="2043" y="1491"/>
                  <a:pt x="2059" y="1366"/>
                  <a:pt x="2059" y="1366"/>
                </a:cubicBezTo>
                <a:cubicBezTo>
                  <a:pt x="2063" y="1382"/>
                  <a:pt x="2068" y="1397"/>
                  <a:pt x="2071" y="1413"/>
                </a:cubicBezTo>
                <a:cubicBezTo>
                  <a:pt x="2077" y="1448"/>
                  <a:pt x="2049" y="1528"/>
                  <a:pt x="2083" y="1519"/>
                </a:cubicBezTo>
                <a:cubicBezTo>
                  <a:pt x="2123" y="1509"/>
                  <a:pt x="2106" y="1440"/>
                  <a:pt x="2118" y="1401"/>
                </a:cubicBezTo>
                <a:cubicBezTo>
                  <a:pt x="2125" y="1377"/>
                  <a:pt x="2134" y="1354"/>
                  <a:pt x="2142" y="1331"/>
                </a:cubicBezTo>
                <a:cubicBezTo>
                  <a:pt x="2150" y="1405"/>
                  <a:pt x="2134" y="1486"/>
                  <a:pt x="2165" y="1554"/>
                </a:cubicBezTo>
                <a:cubicBezTo>
                  <a:pt x="2181" y="1591"/>
                  <a:pt x="2171" y="1472"/>
                  <a:pt x="2189" y="1436"/>
                </a:cubicBezTo>
                <a:cubicBezTo>
                  <a:pt x="2196" y="1421"/>
                  <a:pt x="2196" y="1468"/>
                  <a:pt x="2200" y="1484"/>
                </a:cubicBezTo>
                <a:cubicBezTo>
                  <a:pt x="2192" y="1523"/>
                  <a:pt x="2155" y="1568"/>
                  <a:pt x="2177" y="1601"/>
                </a:cubicBezTo>
                <a:cubicBezTo>
                  <a:pt x="2193" y="1624"/>
                  <a:pt x="2229" y="1575"/>
                  <a:pt x="2247" y="1554"/>
                </a:cubicBezTo>
                <a:cubicBezTo>
                  <a:pt x="2277" y="1519"/>
                  <a:pt x="2294" y="1475"/>
                  <a:pt x="2318" y="1436"/>
                </a:cubicBezTo>
                <a:cubicBezTo>
                  <a:pt x="2314" y="1464"/>
                  <a:pt x="2314" y="1492"/>
                  <a:pt x="2306" y="1519"/>
                </a:cubicBezTo>
                <a:cubicBezTo>
                  <a:pt x="2302" y="1532"/>
                  <a:pt x="2283" y="1568"/>
                  <a:pt x="2283" y="1554"/>
                </a:cubicBezTo>
                <a:cubicBezTo>
                  <a:pt x="2283" y="1498"/>
                  <a:pt x="2309" y="1444"/>
                  <a:pt x="2318" y="1389"/>
                </a:cubicBezTo>
                <a:cubicBezTo>
                  <a:pt x="2322" y="1424"/>
                  <a:pt x="2298" y="1479"/>
                  <a:pt x="2330" y="1495"/>
                </a:cubicBezTo>
                <a:cubicBezTo>
                  <a:pt x="2358" y="1509"/>
                  <a:pt x="2336" y="1370"/>
                  <a:pt x="2342" y="1401"/>
                </a:cubicBezTo>
                <a:cubicBezTo>
                  <a:pt x="2355" y="1475"/>
                  <a:pt x="2349" y="1550"/>
                  <a:pt x="2353" y="1625"/>
                </a:cubicBezTo>
                <a:cubicBezTo>
                  <a:pt x="2380" y="1466"/>
                  <a:pt x="2349" y="1608"/>
                  <a:pt x="2377" y="1660"/>
                </a:cubicBezTo>
                <a:cubicBezTo>
                  <a:pt x="2390" y="1685"/>
                  <a:pt x="2424" y="1691"/>
                  <a:pt x="2447" y="1707"/>
                </a:cubicBezTo>
                <a:cubicBezTo>
                  <a:pt x="2637" y="1517"/>
                  <a:pt x="2760" y="1392"/>
                  <a:pt x="2894" y="1166"/>
                </a:cubicBezTo>
                <a:cubicBezTo>
                  <a:pt x="2882" y="1280"/>
                  <a:pt x="2890" y="1260"/>
                  <a:pt x="2859" y="1366"/>
                </a:cubicBezTo>
                <a:cubicBezTo>
                  <a:pt x="2852" y="1390"/>
                  <a:pt x="2836" y="1411"/>
                  <a:pt x="2836" y="1436"/>
                </a:cubicBezTo>
                <a:cubicBezTo>
                  <a:pt x="2836" y="1457"/>
                  <a:pt x="2851" y="1397"/>
                  <a:pt x="2859" y="1378"/>
                </a:cubicBezTo>
                <a:cubicBezTo>
                  <a:pt x="2882" y="1468"/>
                  <a:pt x="2842" y="1564"/>
                  <a:pt x="2789" y="1637"/>
                </a:cubicBezTo>
                <a:cubicBezTo>
                  <a:pt x="2765" y="1617"/>
                  <a:pt x="2724" y="1608"/>
                  <a:pt x="2718" y="1578"/>
                </a:cubicBezTo>
                <a:cubicBezTo>
                  <a:pt x="2706" y="1524"/>
                  <a:pt x="2774" y="1458"/>
                  <a:pt x="2741" y="1413"/>
                </a:cubicBezTo>
                <a:cubicBezTo>
                  <a:pt x="2715" y="1378"/>
                  <a:pt x="2706" y="1494"/>
                  <a:pt x="2683" y="1531"/>
                </a:cubicBezTo>
                <a:cubicBezTo>
                  <a:pt x="2663" y="1565"/>
                  <a:pt x="2636" y="1594"/>
                  <a:pt x="2612" y="1625"/>
                </a:cubicBezTo>
                <a:cubicBezTo>
                  <a:pt x="2608" y="1648"/>
                  <a:pt x="2598" y="1719"/>
                  <a:pt x="2600" y="1695"/>
                </a:cubicBezTo>
                <a:cubicBezTo>
                  <a:pt x="2606" y="1632"/>
                  <a:pt x="2608" y="1568"/>
                  <a:pt x="2624" y="1507"/>
                </a:cubicBezTo>
                <a:cubicBezTo>
                  <a:pt x="2628" y="1491"/>
                  <a:pt x="2632" y="1538"/>
                  <a:pt x="2636" y="1554"/>
                </a:cubicBezTo>
                <a:cubicBezTo>
                  <a:pt x="2488" y="1800"/>
                  <a:pt x="2406" y="1816"/>
                  <a:pt x="2530" y="1778"/>
                </a:cubicBezTo>
                <a:cubicBezTo>
                  <a:pt x="2597" y="1576"/>
                  <a:pt x="2557" y="1609"/>
                  <a:pt x="2600" y="1719"/>
                </a:cubicBezTo>
                <a:cubicBezTo>
                  <a:pt x="2609" y="1743"/>
                  <a:pt x="2624" y="1766"/>
                  <a:pt x="2636" y="1789"/>
                </a:cubicBezTo>
                <a:cubicBezTo>
                  <a:pt x="2666" y="2015"/>
                  <a:pt x="2603" y="1750"/>
                  <a:pt x="2741" y="1848"/>
                </a:cubicBezTo>
                <a:cubicBezTo>
                  <a:pt x="2764" y="1864"/>
                  <a:pt x="2730" y="1959"/>
                  <a:pt x="2730" y="1931"/>
                </a:cubicBezTo>
                <a:cubicBezTo>
                  <a:pt x="2730" y="1856"/>
                  <a:pt x="2745" y="1802"/>
                  <a:pt x="2765" y="1731"/>
                </a:cubicBezTo>
                <a:cubicBezTo>
                  <a:pt x="2768" y="1719"/>
                  <a:pt x="2790" y="1695"/>
                  <a:pt x="2777" y="1695"/>
                </a:cubicBezTo>
                <a:cubicBezTo>
                  <a:pt x="2750" y="1695"/>
                  <a:pt x="2730" y="1719"/>
                  <a:pt x="2706" y="1731"/>
                </a:cubicBezTo>
                <a:cubicBezTo>
                  <a:pt x="2648" y="1906"/>
                  <a:pt x="2635" y="1785"/>
                  <a:pt x="2577" y="1648"/>
                </a:cubicBezTo>
                <a:cubicBezTo>
                  <a:pt x="2331" y="1796"/>
                  <a:pt x="2429" y="1760"/>
                  <a:pt x="2306" y="1801"/>
                </a:cubicBezTo>
                <a:cubicBezTo>
                  <a:pt x="2327" y="1572"/>
                  <a:pt x="2353" y="1410"/>
                  <a:pt x="2471" y="1213"/>
                </a:cubicBezTo>
                <a:cubicBezTo>
                  <a:pt x="2495" y="1359"/>
                  <a:pt x="2506" y="1505"/>
                  <a:pt x="2542" y="1648"/>
                </a:cubicBezTo>
                <a:cubicBezTo>
                  <a:pt x="2534" y="1672"/>
                  <a:pt x="2520" y="1744"/>
                  <a:pt x="2518" y="1719"/>
                </a:cubicBezTo>
                <a:cubicBezTo>
                  <a:pt x="2512" y="1653"/>
                  <a:pt x="2515" y="1584"/>
                  <a:pt x="2530" y="1519"/>
                </a:cubicBezTo>
                <a:cubicBezTo>
                  <a:pt x="2543" y="1461"/>
                  <a:pt x="2577" y="1409"/>
                  <a:pt x="2600" y="1354"/>
                </a:cubicBezTo>
                <a:cubicBezTo>
                  <a:pt x="2604" y="1303"/>
                  <a:pt x="2604" y="1252"/>
                  <a:pt x="2612" y="1201"/>
                </a:cubicBezTo>
                <a:cubicBezTo>
                  <a:pt x="2616" y="1177"/>
                  <a:pt x="2613" y="1139"/>
                  <a:pt x="2636" y="1131"/>
                </a:cubicBezTo>
                <a:cubicBezTo>
                  <a:pt x="2655" y="1125"/>
                  <a:pt x="2643" y="1170"/>
                  <a:pt x="2647" y="1189"/>
                </a:cubicBezTo>
                <a:cubicBezTo>
                  <a:pt x="2651" y="1236"/>
                  <a:pt x="2670" y="1285"/>
                  <a:pt x="2659" y="1331"/>
                </a:cubicBezTo>
                <a:cubicBezTo>
                  <a:pt x="2650" y="1369"/>
                  <a:pt x="2627" y="1433"/>
                  <a:pt x="2589" y="1425"/>
                </a:cubicBezTo>
                <a:cubicBezTo>
                  <a:pt x="2554" y="1418"/>
                  <a:pt x="2585" y="1351"/>
                  <a:pt x="2600" y="1319"/>
                </a:cubicBezTo>
                <a:cubicBezTo>
                  <a:pt x="2629" y="1258"/>
                  <a:pt x="2679" y="1209"/>
                  <a:pt x="2718" y="1154"/>
                </a:cubicBezTo>
                <a:cubicBezTo>
                  <a:pt x="2726" y="1107"/>
                  <a:pt x="2731" y="1059"/>
                  <a:pt x="2741" y="1013"/>
                </a:cubicBezTo>
                <a:cubicBezTo>
                  <a:pt x="2746" y="989"/>
                  <a:pt x="2786" y="928"/>
                  <a:pt x="2765" y="942"/>
                </a:cubicBezTo>
                <a:cubicBezTo>
                  <a:pt x="2653" y="1017"/>
                  <a:pt x="2619" y="1170"/>
                  <a:pt x="2530" y="1272"/>
                </a:cubicBezTo>
                <a:cubicBezTo>
                  <a:pt x="2446" y="1368"/>
                  <a:pt x="2337" y="1441"/>
                  <a:pt x="2247" y="1531"/>
                </a:cubicBezTo>
                <a:cubicBezTo>
                  <a:pt x="2255" y="1492"/>
                  <a:pt x="2255" y="1450"/>
                  <a:pt x="2271" y="1413"/>
                </a:cubicBezTo>
                <a:cubicBezTo>
                  <a:pt x="2319" y="1300"/>
                  <a:pt x="2523" y="998"/>
                  <a:pt x="2436" y="1084"/>
                </a:cubicBezTo>
                <a:cubicBezTo>
                  <a:pt x="2228" y="1291"/>
                  <a:pt x="2050" y="1527"/>
                  <a:pt x="1918" y="1789"/>
                </a:cubicBezTo>
                <a:cubicBezTo>
                  <a:pt x="1968" y="1448"/>
                  <a:pt x="2156" y="1339"/>
                  <a:pt x="2342" y="1060"/>
                </a:cubicBezTo>
                <a:cubicBezTo>
                  <a:pt x="2397" y="978"/>
                  <a:pt x="2431" y="884"/>
                  <a:pt x="2483" y="801"/>
                </a:cubicBezTo>
                <a:cubicBezTo>
                  <a:pt x="2510" y="758"/>
                  <a:pt x="2594" y="636"/>
                  <a:pt x="2577" y="683"/>
                </a:cubicBezTo>
                <a:cubicBezTo>
                  <a:pt x="2514" y="862"/>
                  <a:pt x="2342" y="1201"/>
                  <a:pt x="2342" y="1201"/>
                </a:cubicBezTo>
                <a:cubicBezTo>
                  <a:pt x="2334" y="1248"/>
                  <a:pt x="2328" y="1295"/>
                  <a:pt x="2318" y="1342"/>
                </a:cubicBezTo>
                <a:cubicBezTo>
                  <a:pt x="2312" y="1369"/>
                  <a:pt x="2320" y="1286"/>
                  <a:pt x="2330" y="1260"/>
                </a:cubicBezTo>
                <a:cubicBezTo>
                  <a:pt x="2356" y="1195"/>
                  <a:pt x="2390" y="1134"/>
                  <a:pt x="2424" y="1072"/>
                </a:cubicBezTo>
                <a:cubicBezTo>
                  <a:pt x="2485" y="961"/>
                  <a:pt x="2549" y="852"/>
                  <a:pt x="2612" y="742"/>
                </a:cubicBezTo>
                <a:cubicBezTo>
                  <a:pt x="2661" y="656"/>
                  <a:pt x="2556" y="933"/>
                  <a:pt x="2518" y="1025"/>
                </a:cubicBezTo>
                <a:cubicBezTo>
                  <a:pt x="2431" y="1238"/>
                  <a:pt x="2424" y="1230"/>
                  <a:pt x="2306" y="1378"/>
                </a:cubicBezTo>
                <a:cubicBezTo>
                  <a:pt x="2289" y="1138"/>
                  <a:pt x="2288" y="1273"/>
                  <a:pt x="2318" y="1001"/>
                </a:cubicBezTo>
                <a:cubicBezTo>
                  <a:pt x="2322" y="962"/>
                  <a:pt x="2363" y="862"/>
                  <a:pt x="2330" y="884"/>
                </a:cubicBezTo>
                <a:cubicBezTo>
                  <a:pt x="2277" y="919"/>
                  <a:pt x="2113" y="1274"/>
                  <a:pt x="2095" y="1307"/>
                </a:cubicBezTo>
                <a:cubicBezTo>
                  <a:pt x="2035" y="1418"/>
                  <a:pt x="1906" y="1637"/>
                  <a:pt x="1906" y="1637"/>
                </a:cubicBezTo>
                <a:cubicBezTo>
                  <a:pt x="1919" y="1347"/>
                  <a:pt x="1919" y="1044"/>
                  <a:pt x="1953" y="754"/>
                </a:cubicBezTo>
                <a:cubicBezTo>
                  <a:pt x="1945" y="887"/>
                  <a:pt x="1938" y="1021"/>
                  <a:pt x="1930" y="1154"/>
                </a:cubicBezTo>
                <a:cubicBezTo>
                  <a:pt x="1927" y="1209"/>
                  <a:pt x="1957" y="1280"/>
                  <a:pt x="1918" y="1319"/>
                </a:cubicBezTo>
                <a:cubicBezTo>
                  <a:pt x="1885" y="1352"/>
                  <a:pt x="1910" y="1225"/>
                  <a:pt x="1906" y="1178"/>
                </a:cubicBezTo>
                <a:cubicBezTo>
                  <a:pt x="1910" y="1068"/>
                  <a:pt x="1932" y="957"/>
                  <a:pt x="1918" y="848"/>
                </a:cubicBezTo>
                <a:cubicBezTo>
                  <a:pt x="1907" y="766"/>
                  <a:pt x="1912" y="1014"/>
                  <a:pt x="1895" y="1095"/>
                </a:cubicBezTo>
                <a:cubicBezTo>
                  <a:pt x="1881" y="1161"/>
                  <a:pt x="1848" y="1221"/>
                  <a:pt x="1824" y="1284"/>
                </a:cubicBezTo>
                <a:cubicBezTo>
                  <a:pt x="1792" y="1595"/>
                  <a:pt x="1848" y="1215"/>
                  <a:pt x="1742" y="1201"/>
                </a:cubicBezTo>
                <a:cubicBezTo>
                  <a:pt x="1679" y="1193"/>
                  <a:pt x="1728" y="1327"/>
                  <a:pt x="1718" y="1389"/>
                </a:cubicBezTo>
                <a:cubicBezTo>
                  <a:pt x="1713" y="1421"/>
                  <a:pt x="1703" y="1452"/>
                  <a:pt x="1695" y="1484"/>
                </a:cubicBezTo>
                <a:cubicBezTo>
                  <a:pt x="1687" y="1445"/>
                  <a:pt x="1676" y="1406"/>
                  <a:pt x="1671" y="1366"/>
                </a:cubicBezTo>
                <a:cubicBezTo>
                  <a:pt x="1660" y="1272"/>
                  <a:pt x="1665" y="1177"/>
                  <a:pt x="1648" y="1084"/>
                </a:cubicBezTo>
                <a:cubicBezTo>
                  <a:pt x="1595" y="799"/>
                  <a:pt x="1459" y="236"/>
                  <a:pt x="1459" y="236"/>
                </a:cubicBezTo>
                <a:cubicBezTo>
                  <a:pt x="1451" y="166"/>
                  <a:pt x="1506" y="35"/>
                  <a:pt x="1436" y="25"/>
                </a:cubicBezTo>
                <a:cubicBezTo>
                  <a:pt x="1261" y="0"/>
                  <a:pt x="1286" y="410"/>
                  <a:pt x="1283" y="448"/>
                </a:cubicBezTo>
                <a:cubicBezTo>
                  <a:pt x="1281" y="480"/>
                  <a:pt x="1261" y="512"/>
                  <a:pt x="1271" y="542"/>
                </a:cubicBezTo>
                <a:cubicBezTo>
                  <a:pt x="1275" y="555"/>
                  <a:pt x="1294" y="527"/>
                  <a:pt x="1306" y="519"/>
                </a:cubicBezTo>
                <a:cubicBezTo>
                  <a:pt x="1293" y="629"/>
                  <a:pt x="1267" y="738"/>
                  <a:pt x="1259" y="848"/>
                </a:cubicBezTo>
                <a:cubicBezTo>
                  <a:pt x="1229" y="1247"/>
                  <a:pt x="1292" y="1052"/>
                  <a:pt x="1212" y="1260"/>
                </a:cubicBezTo>
                <a:cubicBezTo>
                  <a:pt x="1187" y="1043"/>
                  <a:pt x="1222" y="818"/>
                  <a:pt x="1236" y="601"/>
                </a:cubicBezTo>
                <a:cubicBezTo>
                  <a:pt x="1241" y="530"/>
                  <a:pt x="1318" y="396"/>
                  <a:pt x="1248" y="389"/>
                </a:cubicBezTo>
                <a:cubicBezTo>
                  <a:pt x="1148" y="379"/>
                  <a:pt x="1088" y="512"/>
                  <a:pt x="1012" y="578"/>
                </a:cubicBezTo>
                <a:cubicBezTo>
                  <a:pt x="816" y="750"/>
                  <a:pt x="951" y="699"/>
                  <a:pt x="777" y="742"/>
                </a:cubicBezTo>
                <a:cubicBezTo>
                  <a:pt x="773" y="719"/>
                  <a:pt x="785" y="685"/>
                  <a:pt x="765" y="672"/>
                </a:cubicBezTo>
                <a:cubicBezTo>
                  <a:pt x="750" y="662"/>
                  <a:pt x="746" y="702"/>
                  <a:pt x="742" y="719"/>
                </a:cubicBezTo>
                <a:cubicBezTo>
                  <a:pt x="722" y="812"/>
                  <a:pt x="695" y="1001"/>
                  <a:pt x="695" y="1001"/>
                </a:cubicBezTo>
                <a:cubicBezTo>
                  <a:pt x="691" y="966"/>
                  <a:pt x="683" y="931"/>
                  <a:pt x="683" y="895"/>
                </a:cubicBezTo>
                <a:cubicBezTo>
                  <a:pt x="683" y="816"/>
                  <a:pt x="717" y="747"/>
                  <a:pt x="671" y="860"/>
                </a:cubicBezTo>
                <a:cubicBezTo>
                  <a:pt x="663" y="899"/>
                  <a:pt x="681" y="1001"/>
                  <a:pt x="648" y="978"/>
                </a:cubicBezTo>
                <a:cubicBezTo>
                  <a:pt x="609" y="951"/>
                  <a:pt x="638" y="883"/>
                  <a:pt x="636" y="836"/>
                </a:cubicBezTo>
                <a:cubicBezTo>
                  <a:pt x="630" y="699"/>
                  <a:pt x="628" y="562"/>
                  <a:pt x="624" y="425"/>
                </a:cubicBezTo>
                <a:cubicBezTo>
                  <a:pt x="519" y="530"/>
                  <a:pt x="479" y="669"/>
                  <a:pt x="412" y="801"/>
                </a:cubicBezTo>
                <a:cubicBezTo>
                  <a:pt x="376" y="605"/>
                  <a:pt x="441" y="425"/>
                  <a:pt x="318" y="789"/>
                </a:cubicBezTo>
                <a:cubicBezTo>
                  <a:pt x="310" y="860"/>
                  <a:pt x="303" y="930"/>
                  <a:pt x="295" y="1001"/>
                </a:cubicBezTo>
                <a:cubicBezTo>
                  <a:pt x="291" y="1032"/>
                  <a:pt x="283" y="1127"/>
                  <a:pt x="283" y="1095"/>
                </a:cubicBezTo>
                <a:cubicBezTo>
                  <a:pt x="283" y="996"/>
                  <a:pt x="310" y="719"/>
                  <a:pt x="283" y="1013"/>
                </a:cubicBezTo>
                <a:cubicBezTo>
                  <a:pt x="287" y="927"/>
                  <a:pt x="318" y="837"/>
                  <a:pt x="295" y="754"/>
                </a:cubicBezTo>
                <a:cubicBezTo>
                  <a:pt x="287" y="727"/>
                  <a:pt x="238" y="777"/>
                  <a:pt x="224" y="801"/>
                </a:cubicBezTo>
                <a:cubicBezTo>
                  <a:pt x="181" y="874"/>
                  <a:pt x="161" y="958"/>
                  <a:pt x="130" y="1036"/>
                </a:cubicBezTo>
                <a:cubicBezTo>
                  <a:pt x="97" y="1205"/>
                  <a:pt x="114" y="1180"/>
                  <a:pt x="95" y="1048"/>
                </a:cubicBezTo>
                <a:cubicBezTo>
                  <a:pt x="88" y="1001"/>
                  <a:pt x="79" y="954"/>
                  <a:pt x="71" y="907"/>
                </a:cubicBezTo>
                <a:cubicBezTo>
                  <a:pt x="50" y="1073"/>
                  <a:pt x="0" y="1763"/>
                  <a:pt x="107" y="1448"/>
                </a:cubicBezTo>
                <a:cubicBezTo>
                  <a:pt x="115" y="1464"/>
                  <a:pt x="118" y="1483"/>
                  <a:pt x="130" y="1495"/>
                </a:cubicBezTo>
                <a:cubicBezTo>
                  <a:pt x="226" y="1591"/>
                  <a:pt x="213" y="1527"/>
                  <a:pt x="295" y="1425"/>
                </a:cubicBezTo>
                <a:cubicBezTo>
                  <a:pt x="303" y="1460"/>
                  <a:pt x="311" y="1495"/>
                  <a:pt x="318" y="1531"/>
                </a:cubicBezTo>
                <a:cubicBezTo>
                  <a:pt x="327" y="1578"/>
                  <a:pt x="299" y="1651"/>
                  <a:pt x="342" y="1672"/>
                </a:cubicBezTo>
                <a:cubicBezTo>
                  <a:pt x="378" y="1690"/>
                  <a:pt x="356" y="1593"/>
                  <a:pt x="365" y="1554"/>
                </a:cubicBezTo>
                <a:cubicBezTo>
                  <a:pt x="372" y="1522"/>
                  <a:pt x="389" y="1428"/>
                  <a:pt x="389" y="1460"/>
                </a:cubicBezTo>
                <a:cubicBezTo>
                  <a:pt x="389" y="1520"/>
                  <a:pt x="372" y="1578"/>
                  <a:pt x="365" y="1637"/>
                </a:cubicBezTo>
                <a:cubicBezTo>
                  <a:pt x="360" y="1676"/>
                  <a:pt x="344" y="1792"/>
                  <a:pt x="354" y="1754"/>
                </a:cubicBezTo>
                <a:cubicBezTo>
                  <a:pt x="367" y="1700"/>
                  <a:pt x="369" y="1644"/>
                  <a:pt x="377" y="1589"/>
                </a:cubicBezTo>
                <a:cubicBezTo>
                  <a:pt x="385" y="1613"/>
                  <a:pt x="378" y="1669"/>
                  <a:pt x="401" y="1660"/>
                </a:cubicBezTo>
                <a:cubicBezTo>
                  <a:pt x="448" y="1641"/>
                  <a:pt x="462" y="1580"/>
                  <a:pt x="495" y="1542"/>
                </a:cubicBezTo>
                <a:cubicBezTo>
                  <a:pt x="517" y="1517"/>
                  <a:pt x="542" y="1495"/>
                  <a:pt x="565" y="1472"/>
                </a:cubicBezTo>
                <a:cubicBezTo>
                  <a:pt x="569" y="1527"/>
                  <a:pt x="574" y="1582"/>
                  <a:pt x="577" y="1637"/>
                </a:cubicBezTo>
                <a:cubicBezTo>
                  <a:pt x="606" y="2162"/>
                  <a:pt x="441" y="2172"/>
                  <a:pt x="695" y="2107"/>
                </a:cubicBezTo>
                <a:cubicBezTo>
                  <a:pt x="777" y="1983"/>
                  <a:pt x="846" y="1876"/>
                  <a:pt x="883" y="1731"/>
                </a:cubicBezTo>
                <a:cubicBezTo>
                  <a:pt x="875" y="1809"/>
                  <a:pt x="794" y="1922"/>
                  <a:pt x="859" y="1966"/>
                </a:cubicBezTo>
                <a:cubicBezTo>
                  <a:pt x="917" y="2005"/>
                  <a:pt x="918" y="1839"/>
                  <a:pt x="953" y="1778"/>
                </a:cubicBezTo>
                <a:cubicBezTo>
                  <a:pt x="981" y="1729"/>
                  <a:pt x="1016" y="1684"/>
                  <a:pt x="1048" y="1637"/>
                </a:cubicBezTo>
                <a:cubicBezTo>
                  <a:pt x="1056" y="1676"/>
                  <a:pt x="1064" y="1715"/>
                  <a:pt x="1071" y="1754"/>
                </a:cubicBezTo>
                <a:cubicBezTo>
                  <a:pt x="1076" y="1782"/>
                  <a:pt x="1060" y="1821"/>
                  <a:pt x="1083" y="1837"/>
                </a:cubicBezTo>
                <a:cubicBezTo>
                  <a:pt x="1103" y="1851"/>
                  <a:pt x="1130" y="1821"/>
                  <a:pt x="1153" y="1813"/>
                </a:cubicBezTo>
                <a:cubicBezTo>
                  <a:pt x="1185" y="1789"/>
                  <a:pt x="1223" y="1772"/>
                  <a:pt x="1248" y="1742"/>
                </a:cubicBezTo>
                <a:cubicBezTo>
                  <a:pt x="1264" y="1723"/>
                  <a:pt x="1260" y="1650"/>
                  <a:pt x="1271" y="1672"/>
                </a:cubicBezTo>
                <a:cubicBezTo>
                  <a:pt x="1306" y="1743"/>
                  <a:pt x="1285" y="1829"/>
                  <a:pt x="1295" y="1907"/>
                </a:cubicBezTo>
                <a:cubicBezTo>
                  <a:pt x="1426" y="1819"/>
                  <a:pt x="1417" y="1836"/>
                  <a:pt x="1542" y="1695"/>
                </a:cubicBezTo>
                <a:cubicBezTo>
                  <a:pt x="1623" y="1604"/>
                  <a:pt x="1777" y="1413"/>
                  <a:pt x="1777" y="1413"/>
                </a:cubicBezTo>
                <a:cubicBezTo>
                  <a:pt x="1789" y="1421"/>
                  <a:pt x="1799" y="1441"/>
                  <a:pt x="1812" y="1436"/>
                </a:cubicBezTo>
                <a:cubicBezTo>
                  <a:pt x="1830" y="1430"/>
                  <a:pt x="1846" y="1370"/>
                  <a:pt x="1847" y="1389"/>
                </a:cubicBezTo>
                <a:cubicBezTo>
                  <a:pt x="1860" y="1596"/>
                  <a:pt x="1832" y="1609"/>
                  <a:pt x="1753" y="1766"/>
                </a:cubicBezTo>
                <a:cubicBezTo>
                  <a:pt x="1749" y="1790"/>
                  <a:pt x="1736" y="1860"/>
                  <a:pt x="1742" y="1837"/>
                </a:cubicBezTo>
                <a:cubicBezTo>
                  <a:pt x="1752" y="1798"/>
                  <a:pt x="1748" y="1755"/>
                  <a:pt x="1765" y="1719"/>
                </a:cubicBezTo>
                <a:cubicBezTo>
                  <a:pt x="1854" y="1525"/>
                  <a:pt x="2016" y="1373"/>
                  <a:pt x="2165" y="1225"/>
                </a:cubicBezTo>
                <a:cubicBezTo>
                  <a:pt x="2173" y="1245"/>
                  <a:pt x="2183" y="1264"/>
                  <a:pt x="2189" y="1284"/>
                </a:cubicBezTo>
                <a:cubicBezTo>
                  <a:pt x="2195" y="1307"/>
                  <a:pt x="2180" y="1342"/>
                  <a:pt x="2200" y="1354"/>
                </a:cubicBezTo>
                <a:cubicBezTo>
                  <a:pt x="2222" y="1366"/>
                  <a:pt x="2247" y="1339"/>
                  <a:pt x="2271" y="1331"/>
                </a:cubicBezTo>
                <a:cubicBezTo>
                  <a:pt x="2295" y="1292"/>
                  <a:pt x="2317" y="1251"/>
                  <a:pt x="2342" y="1213"/>
                </a:cubicBezTo>
                <a:cubicBezTo>
                  <a:pt x="2364" y="1180"/>
                  <a:pt x="2373" y="1113"/>
                  <a:pt x="2412" y="1119"/>
                </a:cubicBezTo>
                <a:cubicBezTo>
                  <a:pt x="2447" y="1124"/>
                  <a:pt x="2407" y="1194"/>
                  <a:pt x="2424" y="1225"/>
                </a:cubicBezTo>
                <a:cubicBezTo>
                  <a:pt x="2444" y="1261"/>
                  <a:pt x="2487" y="1280"/>
                  <a:pt x="2518" y="1307"/>
                </a:cubicBezTo>
                <a:cubicBezTo>
                  <a:pt x="2589" y="1221"/>
                  <a:pt x="2749" y="938"/>
                  <a:pt x="2730" y="1048"/>
                </a:cubicBezTo>
                <a:cubicBezTo>
                  <a:pt x="2726" y="1072"/>
                  <a:pt x="2718" y="1119"/>
                  <a:pt x="2718" y="1119"/>
                </a:cubicBezTo>
                <a:cubicBezTo>
                  <a:pt x="2702" y="1088"/>
                  <a:pt x="2690" y="995"/>
                  <a:pt x="2671" y="1025"/>
                </a:cubicBezTo>
                <a:cubicBezTo>
                  <a:pt x="2616" y="1111"/>
                  <a:pt x="2506" y="1284"/>
                  <a:pt x="2506" y="1284"/>
                </a:cubicBezTo>
                <a:cubicBezTo>
                  <a:pt x="2491" y="1329"/>
                  <a:pt x="2463" y="1449"/>
                  <a:pt x="2471" y="1260"/>
                </a:cubicBezTo>
                <a:cubicBezTo>
                  <a:pt x="2478" y="1106"/>
                  <a:pt x="2519" y="1013"/>
                  <a:pt x="2565" y="860"/>
                </a:cubicBezTo>
                <a:cubicBezTo>
                  <a:pt x="2581" y="687"/>
                  <a:pt x="2596" y="515"/>
                  <a:pt x="2612" y="342"/>
                </a:cubicBezTo>
                <a:cubicBezTo>
                  <a:pt x="2624" y="207"/>
                  <a:pt x="2638" y="184"/>
                  <a:pt x="2600" y="295"/>
                </a:cubicBezTo>
                <a:cubicBezTo>
                  <a:pt x="2581" y="418"/>
                  <a:pt x="2570" y="344"/>
                  <a:pt x="2647" y="354"/>
                </a:cubicBezTo>
                <a:cubicBezTo>
                  <a:pt x="2661" y="356"/>
                  <a:pt x="2671" y="370"/>
                  <a:pt x="2683" y="378"/>
                </a:cubicBezTo>
                <a:cubicBezTo>
                  <a:pt x="2687" y="441"/>
                  <a:pt x="2688" y="504"/>
                  <a:pt x="2694" y="566"/>
                </a:cubicBezTo>
                <a:cubicBezTo>
                  <a:pt x="2695" y="578"/>
                  <a:pt x="2700" y="612"/>
                  <a:pt x="2706" y="601"/>
                </a:cubicBezTo>
                <a:cubicBezTo>
                  <a:pt x="2723" y="573"/>
                  <a:pt x="2722" y="538"/>
                  <a:pt x="2730" y="507"/>
                </a:cubicBezTo>
                <a:cubicBezTo>
                  <a:pt x="2726" y="550"/>
                  <a:pt x="2723" y="593"/>
                  <a:pt x="2718" y="636"/>
                </a:cubicBezTo>
                <a:cubicBezTo>
                  <a:pt x="2715" y="660"/>
                  <a:pt x="2689" y="690"/>
                  <a:pt x="2706" y="707"/>
                </a:cubicBezTo>
                <a:cubicBezTo>
                  <a:pt x="2721" y="722"/>
                  <a:pt x="2717" y="665"/>
                  <a:pt x="2730" y="648"/>
                </a:cubicBezTo>
                <a:cubicBezTo>
                  <a:pt x="2749" y="621"/>
                  <a:pt x="2777" y="601"/>
                  <a:pt x="2800" y="578"/>
                </a:cubicBezTo>
                <a:cubicBezTo>
                  <a:pt x="2816" y="754"/>
                  <a:pt x="2816" y="674"/>
                  <a:pt x="2800" y="872"/>
                </a:cubicBezTo>
                <a:cubicBezTo>
                  <a:pt x="2800" y="876"/>
                  <a:pt x="2786" y="1049"/>
                  <a:pt x="2777" y="1060"/>
                </a:cubicBezTo>
                <a:cubicBezTo>
                  <a:pt x="2742" y="1104"/>
                  <a:pt x="2647" y="1119"/>
                  <a:pt x="2600" y="1131"/>
                </a:cubicBezTo>
                <a:cubicBezTo>
                  <a:pt x="2547" y="864"/>
                  <a:pt x="2562" y="815"/>
                  <a:pt x="2542" y="989"/>
                </a:cubicBezTo>
                <a:cubicBezTo>
                  <a:pt x="2539" y="963"/>
                  <a:pt x="2539" y="811"/>
                  <a:pt x="2459" y="825"/>
                </a:cubicBezTo>
                <a:cubicBezTo>
                  <a:pt x="2420" y="832"/>
                  <a:pt x="2412" y="888"/>
                  <a:pt x="2389" y="919"/>
                </a:cubicBezTo>
                <a:cubicBezTo>
                  <a:pt x="2381" y="884"/>
                  <a:pt x="2365" y="849"/>
                  <a:pt x="2365" y="813"/>
                </a:cubicBezTo>
                <a:cubicBezTo>
                  <a:pt x="2365" y="419"/>
                  <a:pt x="2513" y="441"/>
                  <a:pt x="2177" y="554"/>
                </a:cubicBezTo>
                <a:cubicBezTo>
                  <a:pt x="2153" y="578"/>
                  <a:pt x="2125" y="652"/>
                  <a:pt x="2106" y="625"/>
                </a:cubicBezTo>
                <a:cubicBezTo>
                  <a:pt x="2070" y="573"/>
                  <a:pt x="2100" y="499"/>
                  <a:pt x="2095" y="436"/>
                </a:cubicBezTo>
                <a:cubicBezTo>
                  <a:pt x="2092" y="405"/>
                  <a:pt x="2087" y="373"/>
                  <a:pt x="2083" y="342"/>
                </a:cubicBezTo>
                <a:cubicBezTo>
                  <a:pt x="2052" y="435"/>
                  <a:pt x="2031" y="528"/>
                  <a:pt x="2012" y="625"/>
                </a:cubicBezTo>
                <a:cubicBezTo>
                  <a:pt x="2005" y="664"/>
                  <a:pt x="1989" y="702"/>
                  <a:pt x="1989" y="742"/>
                </a:cubicBezTo>
                <a:cubicBezTo>
                  <a:pt x="1989" y="754"/>
                  <a:pt x="2000" y="707"/>
                  <a:pt x="2000" y="707"/>
                </a:cubicBezTo>
                <a:cubicBezTo>
                  <a:pt x="2002" y="692"/>
                  <a:pt x="2013" y="393"/>
                  <a:pt x="2047" y="578"/>
                </a:cubicBezTo>
                <a:cubicBezTo>
                  <a:pt x="2053" y="664"/>
                  <a:pt x="2071" y="750"/>
                  <a:pt x="2071" y="836"/>
                </a:cubicBezTo>
                <a:cubicBezTo>
                  <a:pt x="2071" y="860"/>
                  <a:pt x="2035" y="907"/>
                  <a:pt x="2059" y="907"/>
                </a:cubicBezTo>
                <a:cubicBezTo>
                  <a:pt x="2084" y="907"/>
                  <a:pt x="2072" y="858"/>
                  <a:pt x="2083" y="836"/>
                </a:cubicBezTo>
                <a:cubicBezTo>
                  <a:pt x="2141" y="719"/>
                  <a:pt x="2121" y="740"/>
                  <a:pt x="2189" y="695"/>
                </a:cubicBezTo>
                <a:cubicBezTo>
                  <a:pt x="2185" y="734"/>
                  <a:pt x="2183" y="774"/>
                  <a:pt x="2177" y="813"/>
                </a:cubicBezTo>
                <a:cubicBezTo>
                  <a:pt x="2175" y="825"/>
                  <a:pt x="2158" y="858"/>
                  <a:pt x="2165" y="848"/>
                </a:cubicBezTo>
                <a:cubicBezTo>
                  <a:pt x="2294" y="669"/>
                  <a:pt x="2168" y="783"/>
                  <a:pt x="2330" y="660"/>
                </a:cubicBezTo>
                <a:cubicBezTo>
                  <a:pt x="2314" y="691"/>
                  <a:pt x="2310" y="732"/>
                  <a:pt x="2283" y="754"/>
                </a:cubicBezTo>
                <a:cubicBezTo>
                  <a:pt x="2259" y="774"/>
                  <a:pt x="2123" y="786"/>
                  <a:pt x="2095" y="789"/>
                </a:cubicBezTo>
                <a:cubicBezTo>
                  <a:pt x="2071" y="781"/>
                  <a:pt x="2038" y="787"/>
                  <a:pt x="2024" y="766"/>
                </a:cubicBezTo>
                <a:cubicBezTo>
                  <a:pt x="1924" y="617"/>
                  <a:pt x="1765" y="295"/>
                  <a:pt x="1765" y="295"/>
                </a:cubicBezTo>
                <a:cubicBezTo>
                  <a:pt x="1750" y="206"/>
                  <a:pt x="1756" y="117"/>
                  <a:pt x="1706" y="142"/>
                </a:cubicBezTo>
                <a:cubicBezTo>
                  <a:pt x="1654" y="168"/>
                  <a:pt x="1663" y="253"/>
                  <a:pt x="1624" y="295"/>
                </a:cubicBezTo>
                <a:cubicBezTo>
                  <a:pt x="1484" y="445"/>
                  <a:pt x="1316" y="568"/>
                  <a:pt x="1177" y="719"/>
                </a:cubicBezTo>
                <a:cubicBezTo>
                  <a:pt x="869" y="1054"/>
                  <a:pt x="1015" y="918"/>
                  <a:pt x="754" y="1142"/>
                </a:cubicBezTo>
                <a:cubicBezTo>
                  <a:pt x="583" y="1090"/>
                  <a:pt x="714" y="1143"/>
                  <a:pt x="742" y="707"/>
                </a:cubicBezTo>
                <a:cubicBezTo>
                  <a:pt x="752" y="551"/>
                  <a:pt x="709" y="577"/>
                  <a:pt x="801" y="554"/>
                </a:cubicBezTo>
                <a:cubicBezTo>
                  <a:pt x="813" y="562"/>
                  <a:pt x="823" y="583"/>
                  <a:pt x="836" y="578"/>
                </a:cubicBezTo>
                <a:cubicBezTo>
                  <a:pt x="852" y="572"/>
                  <a:pt x="854" y="548"/>
                  <a:pt x="859" y="531"/>
                </a:cubicBezTo>
                <a:cubicBezTo>
                  <a:pt x="870" y="492"/>
                  <a:pt x="916" y="436"/>
                  <a:pt x="883" y="413"/>
                </a:cubicBezTo>
                <a:cubicBezTo>
                  <a:pt x="852" y="392"/>
                  <a:pt x="843" y="475"/>
                  <a:pt x="824" y="507"/>
                </a:cubicBezTo>
                <a:cubicBezTo>
                  <a:pt x="792" y="562"/>
                  <a:pt x="761" y="617"/>
                  <a:pt x="730" y="672"/>
                </a:cubicBezTo>
                <a:cubicBezTo>
                  <a:pt x="702" y="807"/>
                  <a:pt x="666" y="963"/>
                  <a:pt x="601" y="1084"/>
                </a:cubicBezTo>
                <a:cubicBezTo>
                  <a:pt x="548" y="1184"/>
                  <a:pt x="470" y="1269"/>
                  <a:pt x="412" y="1366"/>
                </a:cubicBezTo>
                <a:cubicBezTo>
                  <a:pt x="365" y="1173"/>
                  <a:pt x="372" y="975"/>
                  <a:pt x="354" y="778"/>
                </a:cubicBezTo>
                <a:cubicBezTo>
                  <a:pt x="322" y="786"/>
                  <a:pt x="286" y="820"/>
                  <a:pt x="259" y="801"/>
                </a:cubicBezTo>
                <a:cubicBezTo>
                  <a:pt x="229" y="780"/>
                  <a:pt x="247" y="661"/>
                  <a:pt x="236" y="695"/>
                </a:cubicBezTo>
                <a:cubicBezTo>
                  <a:pt x="222" y="740"/>
                  <a:pt x="244" y="789"/>
                  <a:pt x="248" y="836"/>
                </a:cubicBezTo>
                <a:cubicBezTo>
                  <a:pt x="244" y="875"/>
                  <a:pt x="210" y="924"/>
                  <a:pt x="236" y="954"/>
                </a:cubicBezTo>
                <a:cubicBezTo>
                  <a:pt x="257" y="978"/>
                  <a:pt x="316" y="902"/>
                  <a:pt x="330" y="931"/>
                </a:cubicBezTo>
                <a:cubicBezTo>
                  <a:pt x="365" y="1001"/>
                  <a:pt x="338" y="1088"/>
                  <a:pt x="342" y="1166"/>
                </a:cubicBezTo>
                <a:cubicBezTo>
                  <a:pt x="365" y="1127"/>
                  <a:pt x="390" y="1088"/>
                  <a:pt x="412" y="1048"/>
                </a:cubicBezTo>
                <a:cubicBezTo>
                  <a:pt x="445" y="986"/>
                  <a:pt x="472" y="921"/>
                  <a:pt x="506" y="860"/>
                </a:cubicBezTo>
                <a:cubicBezTo>
                  <a:pt x="657" y="592"/>
                  <a:pt x="594" y="762"/>
                  <a:pt x="648" y="601"/>
                </a:cubicBezTo>
                <a:cubicBezTo>
                  <a:pt x="677" y="235"/>
                  <a:pt x="636" y="681"/>
                  <a:pt x="624" y="778"/>
                </a:cubicBezTo>
                <a:cubicBezTo>
                  <a:pt x="620" y="758"/>
                  <a:pt x="632" y="719"/>
                  <a:pt x="612" y="719"/>
                </a:cubicBezTo>
                <a:cubicBezTo>
                  <a:pt x="566" y="719"/>
                  <a:pt x="535" y="800"/>
                  <a:pt x="506" y="825"/>
                </a:cubicBezTo>
                <a:cubicBezTo>
                  <a:pt x="453" y="869"/>
                  <a:pt x="343" y="865"/>
                  <a:pt x="283" y="872"/>
                </a:cubicBezTo>
                <a:cubicBezTo>
                  <a:pt x="267" y="915"/>
                  <a:pt x="253" y="959"/>
                  <a:pt x="236" y="1001"/>
                </a:cubicBezTo>
                <a:cubicBezTo>
                  <a:pt x="227" y="1024"/>
                  <a:pt x="259" y="931"/>
                  <a:pt x="259" y="931"/>
                </a:cubicBezTo>
                <a:cubicBezTo>
                  <a:pt x="266" y="877"/>
                  <a:pt x="261" y="784"/>
                  <a:pt x="318" y="75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19920" cy="3875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3657600" y="2361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Oomyce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42840"/>
            <a:ext cx="8915400" cy="6815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81120" y="3049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omycet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373356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dy structu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ranching fila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ew cell wal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45280" y="2286000"/>
            <a:ext cx="3798720" cy="4572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3084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Oomycetes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4419720"/>
            <a:ext cx="4191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otato bligh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ot, fruit, crown ro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ckeye ro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b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2428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Oomycetes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owny mildew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und worm parasi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ac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hytridi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505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n a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Mol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agellated sex cel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bable ancestor of  modern fung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5638680" cy="4083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191120" y="5943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progyr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ith chytrid parasi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324480" y="1219320"/>
            <a:ext cx="60984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429000" y="5486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95680" y="380520"/>
            <a:ext cx="4648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hytridi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bitat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quati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hitin like fung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dy structu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ng fila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stly Unicellula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stly Parasit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Myxomycota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ample is plasmodial slime mol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ultinucle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yxomycota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33920" y="3733920"/>
            <a:ext cx="5410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dy struc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enormous cell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lasmodium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y nucle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vered in slime sheat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eaves a slime trac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3751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3470400"/>
            <a:ext cx="3733920" cy="3387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11430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bitat : Terrestria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49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2880" y="54100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Myx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ife Cycle (reproduction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nds most of life as a plasmod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duces fruiting bodies with game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ametes behave like amoeb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gametes meet--&gt; produce new plasmod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3302280" cy="1778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0400" y="2895480"/>
            <a:ext cx="3276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at distinguishes these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153684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502080" y="0"/>
            <a:ext cx="181440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10010" r="0" b="7508"/>
          <a:stretch/>
        </p:blipFill>
        <p:spPr>
          <a:xfrm>
            <a:off x="2057400" y="4343400"/>
            <a:ext cx="23414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15222" t="19905" r="10871" b="0"/>
          <a:stretch/>
        </p:blipFill>
        <p:spPr>
          <a:xfrm>
            <a:off x="0" y="-76320"/>
            <a:ext cx="2743200" cy="227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172200" y="4405320"/>
            <a:ext cx="2971800" cy="245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334120" y="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rcRect l="7928" t="30774" r="65665" b="30774"/>
          <a:stretch/>
        </p:blipFill>
        <p:spPr>
          <a:xfrm>
            <a:off x="0" y="2133720"/>
            <a:ext cx="3200400" cy="2198520"/>
          </a:xfrm>
          <a:prstGeom prst="rect">
            <a:avLst/>
          </a:prstGeom>
          <a:ln w="0">
            <a:noFill/>
          </a:ln>
        </p:spPr>
      </p:pic>
      <p:cxnSp>
        <p:nvCxnSpPr>
          <p:cNvPr id="58" name=""/>
          <p:cNvCxnSpPr/>
          <p:nvPr/>
        </p:nvCxnSpPr>
        <p:spPr>
          <a:xfrm flipH="1" rot="16200000">
            <a:off x="496080" y="2781720"/>
            <a:ext cx="6858720" cy="1294560"/>
          </a:xfrm>
          <a:prstGeom prst="bentConnector3">
            <a:avLst>
              <a:gd name="adj1" fmla="val 6351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" name=""/>
          <p:cNvCxnSpPr/>
          <p:nvPr/>
        </p:nvCxnSpPr>
        <p:spPr>
          <a:xfrm flipV="1">
            <a:off x="31680" y="2895120"/>
            <a:ext cx="9113040" cy="1435680"/>
          </a:xfrm>
          <a:prstGeom prst="bentConnector3">
            <a:avLst>
              <a:gd name="adj1" fmla="val 3583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708660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y locomo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3951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39322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0" y="8380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Myx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38480" y="19051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ife Cycle (reproduction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nds most of life as a plasmod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duces fruiting bodies with game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ametes behave like amoeb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gametes meet--&gt; produce new plasmod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crasi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 is cellular slime mol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228600" y="304920"/>
            <a:ext cx="5054760" cy="65530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crasiomycot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95320" y="19051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ife Cyc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t of life as AMOE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e nucleu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plo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stress, come together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 “slug” or “grex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nd up fruiting bod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ly hatched cells are amoe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676520" y="0"/>
          <a:ext cx="565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0"/>
                    <a:ext cx="565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6084" t="7269" r="0" b="0"/>
          <a:stretch/>
        </p:blipFill>
        <p:spPr>
          <a:xfrm>
            <a:off x="5562720" y="5334120"/>
            <a:ext cx="35812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nimal-like Protists-Protozo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8239" t="9604" r="9345" b="16000"/>
          <a:stretch/>
        </p:blipFill>
        <p:spPr>
          <a:xfrm>
            <a:off x="6477120" y="685800"/>
            <a:ext cx="2666880" cy="147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58000" y="2209680"/>
            <a:ext cx="2286000" cy="139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010280" y="3730680"/>
            <a:ext cx="1981440" cy="1519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66880" y="5715000"/>
            <a:ext cx="289584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Sarcodinian -move with pseudopod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ex. amoebas (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amp; foraminifera and radiolaria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One type of amoeba causes dysentery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Ciliphora - ciliates (cilia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ex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aramecium, Blepharisma, Stentor &amp; Vorticella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Zooflagellates - flagellates also called zoomastigina. Many cause disease in human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ex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rypanosom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hich causes African s.s.; o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iardia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lum Sporozoa -nonmotile, spore bearing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all parasi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ex.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lasmodiu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hich causes malari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arcodinia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0" y="457200"/>
            <a:ext cx="4952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comotion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seudopodi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for great flexibil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ypes (life style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moeb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rine/terres/parasi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ve fea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meobiod moveme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ytoplasmic stream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arcodinia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51055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moeba proteu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tamoeba hixtolyca (causes amoebic dysentery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622760" cy="317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00600" y="2057400"/>
            <a:ext cx="3276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ter Vacuo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od vacuo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seudopodi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tractile Vacuol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not shown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iliaphora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10080" y="761760"/>
            <a:ext cx="3733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como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ili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festyl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free liv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quati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ve fea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wo nucle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acro: bos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icro: sex. repro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ameciu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entor, Vorticell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lepherism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322960" cy="3619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23588" t="25518" r="63549" b="64158"/>
          <a:stretch/>
        </p:blipFill>
        <p:spPr>
          <a:xfrm>
            <a:off x="2666880" y="4343400"/>
            <a:ext cx="243864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6:22:35Z</dcterms:created>
  <dc:creator>Cindy Blakeslee</dc:creator>
  <dc:description/>
  <dc:language>en-US</dc:language>
  <cp:lastModifiedBy>Tricia</cp:lastModifiedBy>
  <cp:lastPrinted>2001-03-06T16:11:39Z</cp:lastPrinted>
  <dcterms:modified xsi:type="dcterms:W3CDTF">2007-05-16T13:03:55Z</dcterms:modified>
  <cp:revision>50</cp:revision>
  <dc:subject/>
  <dc:title> Kingdom Protista</dc:title>
</cp:coreProperties>
</file>